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EECE5-DB66-422F-A7BE-A80C784AD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76A3A-21A7-42B7-A89D-B706211A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4670-B288-42DB-B46E-B3EBA7E3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FDC83-3627-4D74-8398-FFF528C6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3CDD2-B3FA-4B3B-9759-EFE44DFF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1B4D1-198E-46DA-A1B5-FE788020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6C53E-83B4-4796-ADAB-773EACA7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7F9FD-7A5F-4F2F-98D5-A03AE561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AA963-74DE-4B53-A3BD-29788499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9E5E-3343-4DD7-BE51-C9C534869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A54CE-9F77-4A13-A406-1BBA9ACB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16BC0-7F96-4E59-89DD-6FD0B9A4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D62-69C7-468D-9C4F-C352F4DC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0F9-7D4E-416F-892F-4EE2C0D3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5FC38-7379-4EDE-BF5E-9CE3D5C5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C3F2B-41E2-4F30-A6F2-47C50FD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4E996-C006-43DE-919E-225415A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A8990-AD0B-463E-9556-BDDA4BC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4CC9B-2B58-4ABC-A3A9-0C9FF3A6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3C896-4BCC-45FF-A31C-B7383FC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AA161-0261-46D4-9F6A-DF9B9AD5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35301-CC21-4552-B16B-DB3C43F1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69C2-DFA1-4F7A-8D92-F697FC5C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0D9FC-5061-4062-9C8C-BDF0BF68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13B-573D-4054-B235-082CAB1C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718DC-92D5-4EE2-BD65-271393F3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C65B9-0093-45B6-AAE1-A530B1C6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3C9C2-9E05-4B8B-A047-B8DAD2E5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0186F-D803-4F4C-B95C-63071D57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D7F50-542F-4C16-AC4A-3786E916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F103B-B068-4997-8007-DFB4E57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3B9E7-1BF7-413F-968F-617CC18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4838D-427E-4464-BF24-5399E2D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49725-F46C-4845-AC34-468E3A7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C5AA7-F0A9-4E9F-8F2C-6B7A0178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1F7-D2B1-4550-AF9E-B73F1AAC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4D246-4BA0-4DB7-A938-44983950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2361-7523-497A-97CC-995407DD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77BA1-95C6-42A1-9C04-3339747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8EBA6-E355-4E9C-88BA-6D23872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A824D-C289-44EF-A266-68AEBED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C3740-8763-4B91-920C-1CAAC169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E21E5-6FAA-4549-B185-72E8F19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722FE-62A9-458D-BAB4-A4577C2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2A620-3E8E-4F8C-90F0-635D076D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A5CDD-CBDB-4AB6-ABA6-B30BF42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02E3-4012-4452-8226-3B32B7E0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AC03-B922-4463-8215-47D99E7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C113-37A1-4F5D-9E29-A01B8854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EEEAB-245E-4EBC-B91E-86366417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DD367-F356-4813-9777-8F54E84C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1964B-772B-4739-9A65-3F703A24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D9BAC-655E-4C34-90AB-C1CB4284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92AD9-090A-4F08-B60C-4CF636C2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80592-B051-4831-9309-890C3FFE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379A0-AF95-4BD7-AE52-097E6074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60A2B-A700-41C1-B3FA-040BE34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55F8-70EC-4DB7-A49C-1AC38C3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C658-412E-45CB-A379-6A0483AA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D1B7-5D05-4EEA-B77F-2A27694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A73BF-C388-4F63-ADBC-4B3E053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2D63B-A04F-4AC1-B2FE-B74625BE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E08A5-3F48-4952-BD04-1D9F29DD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C19DD-A410-47BC-9971-63C3433E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139AA-DF03-48DC-A3D8-9FDBF6B1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1CC3D-AB95-4017-BC4F-4DC91015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34652-9772-4E3E-8BB4-E571E47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8FA0D-E3E7-4B15-AB49-D84B8DB9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DD49-A8D6-46C4-8F37-C1637009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A1275-3501-4744-9580-CF90AD9F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98020-A2C5-4DCD-A717-E2E86D34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1BE8E-21EF-4C0F-9776-A2AE3CB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943EB-E934-472B-8636-EB68832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BDBE4-6839-4805-AE83-776B3E6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C6A08-A279-435A-B63E-BBCC9F4A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01B45-E0DB-4E3B-8FE1-D0084029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7049F-BD35-4A05-8FD6-63DF8B8F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06722-F9C8-4888-BF28-9CBC423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C8DA9-4022-4161-9449-D416F76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A5DB-CD1F-4AB8-ABDD-EE7B29D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6E2B7-E373-4FBA-8EF0-518D3CA3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DDBA2-04C7-4423-9936-C423749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58846-EBC3-40B4-9CCC-1DC8FBAE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2D4A4-74F2-42D5-964F-72DE67A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E9116-3A8C-4690-81FB-57C1964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B3CA7-84EB-4428-B74B-D1137EA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C51F9-D675-4C5C-ABB0-31AB7A14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79989-D5FB-4A37-A93E-EB048A89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DE312-11B7-4D01-8E0D-9DC328C4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BFDF4-53B4-462D-9465-51955B29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05C7-B9AA-491C-80EA-A88114BB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C3A1A-7B7A-4201-B693-4A69FEA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91F43-45CF-4379-BF19-29CE1086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E457D-BB6E-4AA7-AF19-AAC1760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E9A95-045F-445F-A055-2C0ACFF9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7BD19-42C2-4EAF-A92B-5B57A8AB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B7475-6723-4428-82E6-AF0CEE5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C5C33-33DD-412F-BA0E-EB8A3B4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C88CF-4520-44E8-836C-E3A82FF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844A7-182C-4584-A1E5-AF340C5D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43398-FE8E-4EBA-8464-8D041E0E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1AD3-4BF9-4545-8A5A-9E3A93B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2E062-FC37-4766-9F4A-7D0A425F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F1BC6-C06F-42A8-8FD0-C3C67627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F4B39-96CC-4714-B8AF-D255D4CF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ACD82-598D-4A8B-9458-959585F4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0EE5B-11D7-412C-B5E3-96AE02CB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053D5-954A-4409-8EC8-E07D33E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1AE20-7633-486E-944F-ACD4C8FA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EA2DA-02F3-4B8B-B7C2-E30FAA5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77C10-1AFD-4429-9AAA-2843AD1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8DF11-77D3-4DF4-9A29-50D16B2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03E-38C3-43C1-892B-0E074659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0FFC5-E772-4193-AA8C-8F2B3F4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A8782-0818-485C-A09E-57F144FF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0A947-E1CE-45C9-9F0B-98AF5105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A1579-9963-465F-B61A-2BF2C0D8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25EF3-B4A0-462D-AB6E-BD327EA4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92AFC-31B4-469A-AB72-C17F99C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7BBBF-D61C-499A-B2DB-1444955F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F4882-1CF0-4C38-A24C-02D60A76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07422-F0B3-4574-8AED-DCAEEE06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96842-F495-488F-9200-FD2C3B0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0DC-5DC8-404C-A132-356901AD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DFF-0A55-4AF1-9951-288D9B6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B66F1-FE01-449F-9655-75BCC1A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04A8C-87C9-406B-AABA-A601402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28A70-C589-420F-9800-66E8307B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63D31-F39E-4D99-AB9C-069C21D3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BBB98-FA6B-40D5-AB68-CE6814D3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DE2E-7FC0-4DBF-A682-8FFF7B80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F6D-7766-468B-8199-758A9162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749-30B1-4DAB-866F-FF6429B0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311-D43B-4985-A020-1C5A954C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87E5-0DB5-4074-863E-9722D95B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3D5E-0F93-49E5-8C6C-795B4BF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3655-7A4B-4A13-B391-6F845D8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1C62-EEE3-42D7-83CC-22FB5B7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5EC6-BF08-42A2-99AB-EFCF6A2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FF0-0ADA-421E-B801-73CF713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1E03-64C3-4811-9725-FFB73912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C0FA-D834-4875-8A00-6A4B1FA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E32A-7781-4F88-94A8-3FAAA35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CD02-66BF-4250-A807-5CB70B4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3DEA-B19C-4ECA-8F01-7D87ABD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000C-C3F4-499F-B64A-B6C4B527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7CDD-0CA5-49AD-8C0F-5A235674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2F71-132D-4FF2-9A80-9A0B8C15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4573-9394-404B-AE50-E17AFF6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AC06-6E9B-4C76-8F18-3D5F0E8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61C-9C94-4621-808F-43EF7AE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9A91-CE5A-4BB4-9829-A8D9BDDD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DB4A-6973-4168-B72C-8274A223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0EA2-24E5-4C70-BB1B-5F9D1F7E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52E2-CC19-454B-95E7-790D151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51BD-DE2F-4532-8904-80CBDE0C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F58F-EFFE-41E6-A130-EEC3BBF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1001-E91E-4ADB-9159-6619136B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F6E9C-F01A-40BC-B8A4-C26B8488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B784-0BD9-4D21-AAA7-E811B56F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C5B97-5D69-42C2-9C0B-48522539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952-C6BC-40CC-B44A-44D5335F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965A-887F-4DFC-B48B-90D90E02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72B2-9692-4DF2-8679-C169D87D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F9C0-F620-4363-9D66-0B343C1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B892-195C-4D18-9DD7-9ACA5A5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52FF2-74E4-4745-9FFE-03545B2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860B-C3CD-48F8-A6B3-6DC8DD8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4C1A-BB61-499E-AC38-04C7447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A722-2A34-4BFB-B54B-22B8B1C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F48B-183A-4F38-91D2-DD0E3D00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6EDC-64CA-46D0-996B-D9ABB076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EA8-0BD5-46CE-A736-68ABA5E6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6C3B1-F504-4CCB-9C45-1143446B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56D9-D1D5-49F4-8238-FD270928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7C17-83AA-4B6A-8F4E-83BDD0BB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C337-7774-47F7-9DDB-917520F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99E9-4384-40ED-8924-CE4BDF8D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680E-B1A5-4A8C-8CEB-BBA09EE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C1DD-B2C0-48D8-A881-1E7F25D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EE1D-5790-4CE4-8C00-9E62926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D22C2-85F7-4F64-91AB-F5DFFC9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C557-8836-4E54-A778-07A2B59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674-6B69-4996-A03B-64ED97D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82C3-94B4-437B-B5AC-3F5A78D3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ADC7C-C903-4A44-808B-748D2DB4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707D-D0E4-4E89-ACF9-FA2E3AB4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C160-FEB1-483C-AB23-47751D5B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A337-006F-48D4-B8BF-7A08E74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451B5-0189-4523-B52C-31D85162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48C6C-E979-4623-BB9E-A392FE0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34DD-6078-4E46-ABD4-0489EB0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47400-2A8E-43EF-A947-0085317F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5612-CDB6-44BE-9C04-FB52539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D5A-FA8E-4F9A-9B8B-882E1D2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3F06-9D98-4F51-A0BB-97F5776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8F9D-9ED1-4F93-A264-957D8D17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4074-5334-4370-A53C-385C8CA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C503-5822-4604-B4B7-4F5FC957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43CD-3721-446F-A3CE-F88436FF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2AA9-8EE4-4762-A8FB-65BA8B8E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1C832-76F8-42A5-B579-BEE25B93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05DA-B8A3-442F-85F6-3196F55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9A0D2-DD67-4EA8-9A0F-9D372BC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8ADAC-B9F5-4751-8B85-39960D70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E2D-9037-46D3-AFE0-77435C4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AA940-8209-4504-B05D-BF2B6DC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FBE6-E2F1-4335-B024-F8B774B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8F8DB-0F02-44C4-A5FE-0D858F4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D323-19C2-42BF-B63C-325621B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7AC9F-BF92-4889-8127-EF43C389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A3F1-F823-4480-B9EC-F0323848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1E3AE-F4FC-4A24-8878-7B4F8115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46807-F16D-4395-B08D-2EA91577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FDA7F-39CE-46DE-8F88-DA6B156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6A35-71FC-4FEF-B847-4B33A144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8BF57-6AF6-4AD3-9B9C-BB49161E999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C7911-C5E6-4ADF-B570-0518C8C1C60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6B642-5626-4F9E-B667-D9650C1B97E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AE823-4318-4901-8C69-0247AF6C4BB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E74CE-D541-41C1-8A7F-D6E3185EDAF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E464-8B93-4A4D-B257-F2155F73DD5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74A9E-4C88-487A-A72C-F5D453BDD9A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A557B-29B7-49D4-BE2C-0775FD3449D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61C64-9BC4-4CD3-9DFE-D0F9525AFD5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3308E-C408-44A9-A69D-15DF5289A68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2CE25-A401-473A-9AAD-FF44A6AB1CF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33077-1D98-41B0-9E78-F85B16E479E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204DC-CA3A-4DE4-9B19-5BC547EBD2A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0975A-3881-4228-AB29-E5F3B857E17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50577-F915-49F1-BF07-792C0B9E4C4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8F2A1-CE34-4A34-9B50-AC0E6CE6094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40DAB-D20C-476E-98A1-F6D8CE05F35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7429A-FD68-4DC8-8A15-A21BAAE4A90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FD4E0-302F-4394-B73D-81D735CD140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FA01-3C95-475D-863B-FFC0DAE83A8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7320A-5857-41A9-AD39-5B4D61B9562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BD7A8-43EB-45C4-94AE-2DA35FC2E10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28411-63BA-4208-B510-CEEE08A9CE4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D7BFB-7A38-4FC6-BF4D-56EC1B85283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49E94-DA76-440B-8995-8B02D6B2936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EB75B-D208-4B59-A3DF-960BBE50D2D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C7D28-05C7-47A2-8A91-0044015469F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02489-27B0-4C43-9784-75010D2CFBE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E065C-8090-4B3B-90F8-AED528E293C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E11C9-6F42-403B-9350-B3DD12EB6E6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26A86-861A-4D39-9C44-4A90EEE5558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BC8E3-A589-43FF-8A61-00593E4B02D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C1C77-A512-42D3-9F01-0618D740D52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53719-C0E6-4D09-88C9-0E650F04158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/tour.html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48hourfilm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9: New Media and Content Crea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Metamedia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ew media repurposes old media, combines existing media sources (e.g., photo montage, mashups, music samplin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ot a new phenomenon, (e.g., collage, 1920s avant-garde film) but much easier done with digital object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w Media as Nexus of Art and Computing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uting becomes a more right-brain, creative process - a tool to represent and create new realities vs. simply crunch numbers (although there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 lots of that still required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ternet as New Med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ertainly efficient meta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so envelops previous forms of content/conven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ingly software controlled (e.g., static vs. dynamic pag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ebcomics show nexus of art/computing and value of digital production/distribu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Web 1.0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eb pages as simple publication - </a:t>
            </a:r>
            <a:br>
              <a:rPr sz="2400"/>
            </a:b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rochureware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atic content, little to no community participation or inp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1.0 -&gt; 2.0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troduction of community and data management system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veraging power of social networ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-driven content - dynamic page cre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 manipulation and creation by user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mocratic, open-source gen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cial” web (and version 3.0 = semantic web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SLATES (McAfee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ar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uthor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agg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ten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gnal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6" name="TextBox 3"/>
          <p:cNvSpPr/>
          <p:nvPr/>
        </p:nvSpPr>
        <p:spPr>
          <a:xfrm>
            <a:off x="858600" y="5664240"/>
            <a:ext cx="78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Afee, A.P (2006).  Enterprise 2.0: The Dawn of Emergent Collaboration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an Management Review, 47(3), 21-6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loanreview.mit.edu/smr/issue/2006/spring/0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sevenhex"/>
          <p:cNvPicPr/>
          <p:nvPr/>
        </p:nvPicPr>
        <p:blipFill>
          <a:blip r:embed="rId1"/>
          <a:stretch/>
        </p:blipFill>
        <p:spPr>
          <a:xfrm>
            <a:off x="2514600" y="1905120"/>
            <a:ext cx="4178160" cy="438156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nother take (Carr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TextBox 3"/>
          <p:cNvSpPr/>
          <p:nvPr/>
        </p:nvSpPr>
        <p:spPr>
          <a:xfrm>
            <a:off x="854640" y="6324480"/>
            <a:ext cx="75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, A. (2007).  Designing for Sustainable Conversations.  InteractionCamp 2007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lideshare.net/acarr/designing-sustainable-conversations-with-social-media-59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Driving traffic through social med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do you leverage social media to popularize conten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*not* just technology – build it, they won’t come. 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role of content aggregators (e.g., 4chan, digg, reddit, KYM, Buzzfeed, StumbleUpon etc.) – reintermediation in content/audience dynamic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b analytics bas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-driven web = data footprints everywhe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 passed on by every web call: IP address, platform, browser, referral pa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ows for custom content (e.g., vague geolocation data, customization for plattorm (esp. mobile), content specific to source (e.g., welcoming visitors from particular sourc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erver/client interaction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TTP as stateless (implication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okies – information passed on in web calls for session/continued u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tailed information can be embedded to support future interac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mplications of thi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marking underway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et feedback?  If not, unlock your wiki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cycle should be done by next week, so do the above ASAP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tegration of subscriber dat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istration for social media services – what information is sometimes request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file -&gt; action link interesting and valuabl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acebook as advertising platform -&gt; why would subscriber data be especially valuable in FB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Youtube analytics – age info likely from profil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earch Engine Optimization (SEO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do you get to Page 1 of Googl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an (and should) happen naturally, but underhanded/unethical techniques common (example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better technique: create good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ttp://igniteshow.com/videos/oatmeal-how-get-5-million-people-read-your-website-ep-69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Online advertis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dvertising = not really viral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oogle Adwords = targeted to keyword searches, loca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acebook ads = potentially targeted to a range of other interes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ore on all this?  Take CCT356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ekly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www.google.com/analytics/tour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information could you learn about viewers of your meme using such a tool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could this information be valuable in refining meme and its propagatio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anovich</a:t>
            </a:r>
            <a:r>
              <a:rPr b="0" lang="ja-JP" sz="4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s LNM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Language of New Media - distilling the core essence of new media into eight propositions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More of a media form/genre definition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N.B.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ew Media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is not a chronological term (although contemporary media are more likely to be 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vs. Cybercultur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poses a distinction - new media studies forms and codes vs. social effect (e.g., media use studies, cultural studies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cknowledges cyberculture as interesting but a different field entire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Distribu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oks at new media explicitly as channel - digital transmission, in whatever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presentation in digital form is increasingly common - exampl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mitations of this approach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Software Controlled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data structures, modularity, automation to create the cultural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igital photography/video as example; due to common technical standards for coding and manipulation, media objects can be shared and manipulated (sometimes automatically) with ea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ther examples - e.g., dynamic web pages, Google AdSen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ultural convention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even development - just because you can represent and manipulate something in digital form doesn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 mean it will work will in practice (e.g., digital actor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orph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osite</a:t>
            </a:r>
            <a:r>
              <a:rPr b="0" lang="ja-JP" sz="24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- earlier conceptual models survive transition to new media and impact its form (e.g., desktop metaphor vs. alternativ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esthetics of New Med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ew media technologies create their own established aesthet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DV movies and cheaper amateur production (e.g., </a:t>
            </a: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48hourfilm.com/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YouTube, vblogging, etc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New Media as Effici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uting technology executes various tasks considerably faster - e.g., 3D animation, composite photograph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fficiency opens up new possibilities that were not present befo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1-10T19:57:29Z</dcterms:modified>
  <cp:revision>78</cp:revision>
  <dc:subject/>
  <dc:title>CCT 300: Critical Analysis  of Media</dc:title>
</cp:coreProperties>
</file>